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1557-359A-4A8B-B643-E653117EE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B872-0A21-45F4-B7B3-E32DABC3E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6CB9-0A2D-4689-BC77-83A4FF790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FA78-8675-4C0D-87B6-5918DCC6A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library.thinkquest.org/C004535/aerobic_respira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1C2F-97C6-4885-A327-C0D99EBFE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65AB-E07F-461D-BF96-FC6BAA588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45FA-B46D-499B-A30A-6D671A12DC3A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1EB1-1667-42AC-BD9C-67F41DBBC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http://www.emc.maricopa.edu/faculty/farabee/biobk/biobookglyc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593C-403F-4F75-BCE8-E0996C61ED72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392B-0E6C-4065-A657-EE097627C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9DE3-E742-46C0-9997-12ADA96ACA13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02A9-0130-4A31-8658-1971AD557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AEB5-4244-46B9-8332-2333AC98F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Depends if oxygen is present or not.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Image from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bio1151b.nicerweb.net/Locked/media/ch09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60D9-B6B2-4A5E-A1FF-C6D4AE915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mitochondrial-disorder-information.com/what_is_mitochondria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48ED-D403-4842-AB5C-FCC28CE99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schoolworkhelper.net/2011/02/cellular-respiration-glycolysis-pyruvate-kerbs-etc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2337-3893-49F2-AC43-494B793FA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enzyme A is a vitamin B5 deri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89E6-0699-4E30-BD4B-E68E944D1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http://course1.winona.edu/kbates/Bio241/cellresp03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2E2E-276F-4F48-8DE1-35EB9EBD9B76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0328-4F1A-475D-9E61-58680AAF1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A090-3E87-41B5-8689-585A0BC9AB5A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C3BF-D544-4C48-9735-B89F2A2A3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C79E-2801-41B5-A9EA-DB622EDCF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upload.wikimedia.org/wikipedia/en/b/b4/Citric_acid_cycle_noi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30BF-A280-4456-B2CB-C36568A20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3182-7C3F-42B3-B0BA-FF6DDB50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E1CF-B581-4780-9188-29E1B1092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A0CF-245E-4ECE-92DB-126373664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ABE9-D21A-40F9-8DBD-00A06B71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F6A6-2852-4647-860E-B4CB73FD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A3C4-715A-4CED-9DE1-B9C43776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14BE-A749-4B21-84B3-16B72555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B969-B72D-462C-B675-22CD6856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5229-FF77-474B-B315-44DF51D2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541F-0B2C-47C8-93BE-742936AE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0E80-DA86-499C-9DF9-689460A3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0C50-AC22-4D7A-B0CE-FDC24F94D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ruvate Ox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itric Acid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tion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carboxylation (reactions 3 &amp; 4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dox (reactions 3,4,6,8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nergy production (reaction 5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kreb_cycle"/>
          <p:cNvPicPr/>
          <p:nvPr/>
        </p:nvPicPr>
        <p:blipFill>
          <a:blip r:embed="rId1"/>
          <a:stretch/>
        </p:blipFill>
        <p:spPr>
          <a:xfrm>
            <a:off x="1371600" y="609480"/>
            <a:ext cx="6400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oxaloacetate is regenera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all 6 carbons from glucose have been oxidized to CO</a:t>
            </a:r>
            <a:r>
              <a:rPr b="0" lang="en-US" sz="3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all of the energy from glucose is in the form of ATP, NADH and FADH</a:t>
            </a:r>
            <a:r>
              <a:rPr b="0" lang="en-US" sz="3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Krebs Cycle Overall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 acetyl CoA + 6NA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2 FAD + 2ADP + 2 P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 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6 NADH + 6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2 FAD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2 AT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3886200" y="3276720"/>
            <a:ext cx="762120" cy="304560"/>
          </a:xfrm>
          <a:prstGeom prst="rightArrow">
            <a:avLst>
              <a:gd name="adj1" fmla="val 50000"/>
              <a:gd name="adj2" fmla="val 625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enyld2"/>
          <p:cNvPicPr/>
          <p:nvPr/>
        </p:nvPicPr>
        <p:blipFill>
          <a:blip r:embed="rId1"/>
          <a:stretch/>
        </p:blipFill>
        <p:spPr>
          <a:xfrm>
            <a:off x="1427040" y="1981080"/>
            <a:ext cx="6288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reaction review: http://www.science.smith.edu/departments/Biology/Bio231/kreb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tion &amp; Quiz: http://highered.mcgraw-hill.com/sites/0072507470/student_view0/chapter25/animation__how_the_krebs_cycle_works__quiz_1_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iew of ETC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f you want to go over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 Transport Chain after reading about it &amp; before our lesson tomorrow, this is a short animation that might hel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highered.mcgraw-hill.com/olcweb/cgi/pluginpop.cgi?it=swf::535::535::/sites/dl/free/0072437316/120071/bio11.swf::Electron%20Transport%20System%20and%20ATP%20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ppens to pyruv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09_18PyruvateInCatabolism_L"/>
          <p:cNvPicPr/>
          <p:nvPr/>
        </p:nvPicPr>
        <p:blipFill>
          <a:blip r:embed="rId1"/>
          <a:stretch/>
        </p:blipFill>
        <p:spPr>
          <a:xfrm>
            <a:off x="2371680" y="1981080"/>
            <a:ext cx="4398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ruvate Ox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oxygen is present, the pyruvate molecules are transported from the cytoplasm into the mitochondrial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mitochondria"/>
          <p:cNvPicPr/>
          <p:nvPr/>
        </p:nvPicPr>
        <p:blipFill>
          <a:blip r:embed="rId1"/>
          <a:stretch/>
        </p:blipFill>
        <p:spPr>
          <a:xfrm>
            <a:off x="4648320" y="2087640"/>
            <a:ext cx="3809880" cy="39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ruvate Ox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pyruvate-oxidation"/>
          <p:cNvPicPr/>
          <p:nvPr/>
        </p:nvPicPr>
        <p:blipFill>
          <a:blip r:embed="rId1"/>
          <a:stretch/>
        </p:blipFill>
        <p:spPr>
          <a:xfrm>
            <a:off x="812880" y="1981080"/>
            <a:ext cx="7516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ruvate Ox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the mitochondrial matr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 enzyme-catalyzed chang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000000"/>
                </a:solidFill>
                <a:latin typeface="Arial"/>
              </a:rPr>
              <a:t>decarboxyl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000000"/>
                </a:solidFill>
                <a:latin typeface="Arial"/>
              </a:rPr>
              <a:t>attachment of coenzyme 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yruvate Ox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http://biology200.gsu.edu/houghton/2107%20'07/Figures/Chapter7/figure7.8.jpg"/>
          <p:cNvPicPr/>
          <p:nvPr/>
        </p:nvPicPr>
        <p:blipFill>
          <a:blip r:embed="rId1"/>
          <a:stretch/>
        </p:blipFill>
        <p:spPr>
          <a:xfrm>
            <a:off x="785880" y="1643040"/>
            <a:ext cx="73184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e Citric Acid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(Also known as the Krebs Cyc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itric Acid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8 enzyme-catalyzed reac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mitochondrial matri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aerobi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cyclic: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xaloacetat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reactant of the first reaction and product of the last rea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Citric_acid_cycle_noi"/>
          <p:cNvPicPr/>
          <p:nvPr/>
        </p:nvPicPr>
        <p:blipFill>
          <a:blip r:embed="rId1"/>
          <a:stretch/>
        </p:blipFill>
        <p:spPr>
          <a:xfrm>
            <a:off x="1123920" y="609480"/>
            <a:ext cx="6896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05:17:26Z</dcterms:created>
  <dc:creator>rubina khan</dc:creator>
  <dc:description/>
  <dc:language>en-US</dc:language>
  <cp:lastModifiedBy>rubina khan</cp:lastModifiedBy>
  <dcterms:modified xsi:type="dcterms:W3CDTF">2017-05-31T13:45:02Z</dcterms:modified>
  <cp:revision>70</cp:revision>
  <dc:subject/>
  <dc:title>Aerobic Cellular Respiration</dc:title>
</cp:coreProperties>
</file>